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3.wmf" ContentType="image/x-wmf"/>
  <Override PartName="/ppt/media/image3.wmf" ContentType="image/x-wmf"/>
  <Override PartName="/ppt/media/coin.wav" ContentType="audio/x-wav"/>
  <Override PartName="/ppt/media/arrow.wav" ContentType="audio/x-wav"/>
  <Override PartName="/ppt/media/image1.jpeg" ContentType="image/jpeg"/>
  <Override PartName="/ppt/media/image15.wmf" ContentType="image/x-wmf"/>
  <Override PartName="/ppt/media/chimes.wav" ContentType="audio/x-wav"/>
  <Override PartName="/ppt/media/image7.wmf" ContentType="image/x-wmf"/>
  <Override PartName="/ppt/media/image8.wmf" ContentType="image/x-wmf"/>
  <Override PartName="/ppt/media/cashreg.wav" ContentType="audio/x-wav"/>
  <Override PartName="/ppt/media/hammer.wav" ContentType="audio/x-wav"/>
  <Override PartName="/ppt/media/image6.wmf" ContentType="image/x-wmf"/>
  <Override PartName="/ppt/media/click.wav" ContentType="audio/x-wav"/>
  <Override PartName="/ppt/media/whoosh.wav" ContentType="audio/x-wav"/>
  <Override PartName="/ppt/media/breeze.wav" ContentType="audio/x-wav"/>
  <Override PartName="/ppt/media/camera.wav" ContentType="audio/x-wav"/>
  <Override PartName="/ppt/media/image2.png" ContentType="image/png"/>
  <Override PartName="/ppt/media/image10.wmf" ContentType="image/x-wmf"/>
  <Override PartName="/ppt/media/suction.wav" ContentType="audio/x-wav"/>
  <Override PartName="/ppt/media/image4.gif" ContentType="image/gif"/>
  <Override PartName="/ppt/media/drumroll.wav" ContentType="audio/x-wav"/>
  <Override PartName="/ppt/media/type.wav" ContentType="audio/x-wav"/>
  <Override PartName="/ppt/media/wind.wav" ContentType="audio/x-wav"/>
  <Override PartName="/ppt/media/image9.wmf" ContentType="image/x-wmf"/>
  <Override PartName="/ppt/media/explode.wav" ContentType="audio/x-wav"/>
  <Override PartName="/ppt/media/image11.wmf" ContentType="image/x-wmf"/>
  <Override PartName="/ppt/media/voltage.wav" ContentType="audio/x-wav"/>
  <Override PartName="/ppt/media/image12.wmf" ContentType="image/x-wmf"/>
  <Override PartName="/ppt/media/image5.wmf" ContentType="image/x-wmf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B9CB-D1C2-443A-B6FB-8320E35F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508B-5023-49D6-8257-DDDF00CE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9235-7F06-4A1B-9EC6-242AADC8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3736-172D-4DCB-A279-20979DF9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0970-C28F-4E7B-BE84-4584DAB5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EEC0-7425-4982-BACA-BF626593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619C-7469-40CB-A38C-D273B687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6D42-A0AC-419F-8711-9A175F2E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C688-3588-4E1F-BBFE-2005B604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EFC5-3316-4630-A57E-1BFBA6F6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7D52-7173-4CDA-9A22-0E966F28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3C03-6EC2-4F2B-8EA4-3C00B589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7448-1084-45D1-92AD-F4D6CC85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5C60-0ACC-4159-B2D5-AA5853CC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F6B1-8917-46E1-89B6-8489A0BF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420E-264D-476F-B709-93F055C7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3D0C-5393-46BB-8CEE-8E1A6445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402B-F1DA-4C99-83A0-99BE56D7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7039-7831-4A67-97D4-8BF82F21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71794-5443-4A4E-9FF8-CA056A09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AB6F-F162-4556-8929-DFFFE6AB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C7BC-706B-47DA-BEA4-5F77D90E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37D2-087B-4C98-87DB-9C5A3CEF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CBA89-AD8F-49B0-B565-49DAA44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E226-C4E8-43A7-98D3-2737E537E5E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C59A-A177-40B4-A0FE-386896CC43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xplode.wav" TargetMode="External"/><Relationship Id="rId3" Type="http://schemas.microsoft.com/office/2007/relationships/media" Target="file:///tmp/home/.config/libreoffice/4/user/gallery/explod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file:///tmp/home/.config/libreoffice/4/user/gallery/arrow.wav" TargetMode="External"/><Relationship Id="rId3" Type="http://schemas.microsoft.com/office/2007/relationships/media" Target="file:///tmp/home/.config/libreoffice/4/user/gallery/arrow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breeze.wav" TargetMode="External"/><Relationship Id="rId3" Type="http://schemas.microsoft.com/office/2007/relationships/media" Target="file:///tmp/home/.config/libreoffice/4/user/gallery/breez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click.wav" TargetMode="External"/><Relationship Id="rId3" Type="http://schemas.microsoft.com/office/2007/relationships/media" Target="file:///tmp/home/.config/libreoffice/4/user/gallery/click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coin.wav" TargetMode="External"/><Relationship Id="rId3" Type="http://schemas.microsoft.com/office/2007/relationships/media" Target="file:///tmp/home/.config/libreoffice/4/user/gallery/coin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drumroll.wav" TargetMode="External"/><Relationship Id="rId6" Type="http://schemas.microsoft.com/office/2007/relationships/media" Target="file:///tmp/home/.config/libreoffice/4/user/gallery/drumroll.wav" TargetMode="External"/><Relationship Id="rId7" Type="http://schemas.openxmlformats.org/officeDocument/2006/relationships/image" Target="../media/image2.png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Bremen Town Musicians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Vocabulary and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00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2590920" cy="289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339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olution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of solving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00360" cy="4119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5" name="explode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7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urvival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 of living on or of surviv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554360" cy="3498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  <p:sndAc>
      <p:stSnd>
        <p:snd r:embed="rId2" name="suctio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iserable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, very unhapp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567240" cy="3763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724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5" name="voltage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138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8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truggle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ing hard to do something that is difficul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3751200" cy="3630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laser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66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2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depend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 on or trust a person or th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familiar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-known or close to you from repeated cont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381560" cy="375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insist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a demand or taking a st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70512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Vocabulary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excite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l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onste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usician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obbe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excitement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very strong, happy feelings about something that you 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2752560" cy="305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ill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uilding in which grain is ground into flour or m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313380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onster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-believe people or animals that are sc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3243240" cy="4154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5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9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usician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who sings, plays, or writes mus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349880" cy="2932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8" name="click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73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5"/>
                </p:tgtEl>
              </p:cMediaNode>
            </p:audio>
            <p:seq>
              <p:cTn id="1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924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6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robber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who rob or st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4929480" cy="3873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5" name="coin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908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0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artnership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u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urviv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serab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trugg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pen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amiliar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nsis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  <p:sndAc>
      <p:stSnd>
        <p:snd r:embed="rId1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partnership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wo or more people become partners and join together to share someth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3880" y="3213000"/>
            <a:ext cx="563904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5" name="type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183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2:15:49Z</dcterms:created>
  <dc:creator> </dc:creator>
  <dc:description/>
  <dc:language>en-US</dc:language>
  <cp:lastModifiedBy>MCSB</cp:lastModifiedBy>
  <dcterms:modified xsi:type="dcterms:W3CDTF">2008-10-22T14:13:18Z</dcterms:modified>
  <cp:revision>2</cp:revision>
  <dc:subject/>
  <dc:title>The Bremen Town Musicians</dc:title>
</cp:coreProperties>
</file>